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F3A9C-0E68-4F9F-A9AA-BF7C4368B95D}"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C5241-F676-44CB-954D-F9034857A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D6D03-32CA-4549-BAB1-0629781FB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9B14C1-DBD8-4353-B3B4-158DDB783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E97A9-A08E-476E-909C-522B0898D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F5576-9A04-447E-802C-651007409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5D7B3-3E30-457C-A62C-510C08E03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11A4AE-8E59-43A0-A558-6CBF57CA5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1F9D94-0323-4148-885A-6A60D3C6A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55CB4-8E47-4346-AC06-B5A7C0AA4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0B329-3615-4B35-969F-173285EAB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C35E1-01A0-497F-9A25-4F3C7B541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2554B-961B-4573-B8AD-D9E1E7E03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DB08C8-2796-4661-858A-49544E3AD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9C742-84F2-4948-B3CE-D021BD3C7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25212-C676-4656-A7E2-C88EE5EC9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F6D2D-D6E4-4980-9BAE-063964F5D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0F688-35BE-42FB-AE72-1D6BA0DC6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0BFE8-5B7D-4724-BCD6-813362091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F1638-A0D3-402E-963D-4E7C8082B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3A7E6-10E1-4FAC-B48F-2C1FF046A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AE814-2913-467E-A6DE-7ECAA8BD8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AC091-BB67-455D-BD1F-6D622E1CA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76249-293B-403A-9BEE-16C7261C0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1BC7F8-197C-4CE8-BFDA-9A6D9A906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46903-07AF-4415-8E3D-1DF5C434E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25659-E486-41BF-8DF3-B5D57E354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57FF7-B2F7-490D-9CFF-B05A39BE7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012A39-1A70-43FB-BA4E-124BA5705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D35B18-E09C-40E7-A2A9-850D51846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69FD9-DB46-4752-8241-6ABD668CE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C7C9D-7CE7-4C1D-BB19-A2C9D77B0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C91A7-FB50-4B32-95AE-2841F21F6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3B7CB-98FA-43D4-ABDD-9E1DEB187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4C2B8A-A992-4BAA-9CEF-385D1D8EC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8818C-B868-4DEB-BF85-A894B8A96D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9345842-5226-48B8-8E6F-DA2671C345B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81C7DB3-A6A1-4CC6-A555-4A67528EF36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15667B77-55C3-4C46-8CB2-8EE0B09B95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0F324A86-C4E5-4B02-8102-6B8AE44DDD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B20DF6A-2607-49A0-9DFE-B9FD565A42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560569A-7204-4519-9E6E-E29820462FD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31D9A87-D3BF-470C-814C-DEF6809434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85B2850-AD3C-4D0D-8122-B2442D43EFE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93E60714-AFF8-4838-8BB3-5C66FF02F3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11F0C09-4068-4179-BD13-D49D5E9FDDF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385A208-97F1-459B-9ACE-B64B4DBDF0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2EBBAD6-97AB-47CF-ACA0-FE104ACCFB8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4B1713F-694D-4B7C-9DAE-85B23874288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4380717-B7DA-4378-882E-22A713CBA73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039B9BA-1649-4657-81FC-0B06CBD795C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5FB3A4E-37B5-40E0-9D60-F4A04CD3AAE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7FE2C33-85E3-4F16-891E-0AA7A36214A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9CFA8D0-D4CD-472D-A6FF-2531B2143BF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9FB2C6F-E932-49A6-A44A-A976CCF6269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18BAEAF-9E41-4522-A6C3-2970DD2C428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F124493-D815-493E-A257-D2DEFF2A3A4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BBDB39C1-E427-4A3D-9D2A-D22B60B970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F1423BF-BBBE-427A-9FC0-F3FE6A6648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4D09B6E-A926-46DD-96D9-B15B1BC4DF7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C9BED60-B3EC-4814-8191-8D24E073CCD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22B1042-523A-4142-B55C-70815B1F276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E02B996-3146-405D-A098-57640654423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548008F-93EC-4536-A5FF-99C2FD7CF6C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6E95D07-2453-4C40-9896-650EA8B922C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C39E36F9-0D59-4EF9-A6B6-672EE8C53EA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64AC8C7-8673-471B-8120-EC27B277F2A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BF441E4-7C7F-4662-A8E0-21DA7114517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78700D6-8D57-4286-B5EC-EC2C5C0BFE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CD1824-592C-4088-A77E-9299412E965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3F3AFB6-CB01-438D-B42B-F10127B5F99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0240BE8-ED39-45C6-8C76-A875A5076A2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052518CA-05AE-41D0-A4CE-E375EBED716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BDF573C-F0A3-4B4A-8C98-72A6789B0D1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DDC594B-372F-4896-9466-1189C4F8B02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2C3C2E4-C888-4057-947A-3CCCC46390A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5F30BB4-1BB6-439D-83F3-48CE400E169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41594F15-8EF2-4947-8FBD-FA161709DC7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617BB538-4601-40D8-8CA3-B3739A7DC5D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F47B98B-F171-4075-8710-C44AF73158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9C84278-97B1-4FEA-A941-0B796B5A166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C063996-E653-4819-AB7A-FD7D61C3A4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AFCEC82-A31F-4A46-A91A-A661FF7CD11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50C0B83-FBA9-4E8A-8A49-9C0588EB1A1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48EEDBB9-4151-4D92-8A79-B561CC94003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567F9354-2A50-40B2-B8D4-F65F989BED0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7ECCE00-0D93-4D77-8B4D-7D74DCCE88C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78021A8-2AC0-4464-B192-BBB42C168E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5F174F1-5AEA-42B3-A93C-A187E59FE1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BCD36E2-7345-4CB5-BFC6-C9B866255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D1773B45-C3C8-4B76-84C1-8AD0EA2955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327933D-9666-47FF-9DCF-9A8E9ADC54E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E88C26F-0798-4FD8-A999-5645951786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06D081F-2DD8-4550-BEF3-5871F529D8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F0D592B-8D53-4B6B-8030-34EF7AEB52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9C18DA9-09C5-4DC8-B704-047BCE38C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06E0817-6D2C-45D4-9E54-DE97AFB501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35E5FE1-6875-4D9D-88F1-A6951483A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B7D00FB9-2620-459A-9DD2-15C28A01B3D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F02B16C-B9EC-4729-BBC9-B8161B46A1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07C1F7F-9B5D-4DFF-A6D1-1BF6440FB3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6DCEF8D-CCD0-455B-A7B8-6D9B4DF77E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5EC7B1A-C8BB-45C3-A008-C8F7673983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03CA996-E0D0-46F3-8791-06E557675D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6BC05D3-5220-46FA-8EBD-D7161A67F7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EB2A294-6B1D-4FED-AFC1-775677ABE4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69B36C6-4649-40D7-9CB3-0764DF8C88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2F2DC37-B2BD-4B0D-BB47-D819162EBE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ED348D8-B551-4890-803F-56FD0A729DB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57404FA-8110-424B-85E3-E35E13C78B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7BF4FF-4C17-4E34-AE5D-A2F497C31E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7A6FEB-A298-4D2F-B3B8-399BE092A48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782AC35-3CC1-49A1-B826-306448BDC9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4E7ADB-62CB-4D87-A878-8472B99C5A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11AC7CF-C3C6-4C5D-A528-D9AE8D81FC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A1B0F10-58C2-4EAF-A701-6D3625314B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522D9BD-D0AA-4B07-B86E-6242BD94FF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64A7B6D-B00A-4D46-8327-50D42EBEC64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6BF86C4-791F-4171-A126-A1ACEEECBE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1B73CBD-888A-4FD5-BA31-0383C52CF2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64B27EAD-8F14-48F2-9851-514C62E77D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9FB65F30-CDDD-4129-831F-BD2628590F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B280C0-B17A-4658-A964-F3CBA7410C0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52CE6BA-5E67-4EDD-AD46-E5F6DF376BF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CE53E50-BEF1-44BD-A6D0-2CB92BE4A5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32871FA-EDE2-4F0E-A96C-B553C9AB81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5B2885B-7D1C-4DF9-A594-6A6A601CD79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9D2569B-8756-4D43-B181-B8AA925B2A7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E532B1D-30FE-4E18-B125-B1773DC943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6FF14B8-8244-47BA-8212-AF3B633A038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FD8AE0E-9304-49FB-8D0C-BE26370195F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A70F8FA-9BBC-4CB6-89EA-E72BDA4CB86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BCDCB6F-2AEE-4E7D-8F17-0D9279E6843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B22286AB-24B9-49F3-A259-E75C5D3B170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373C6C7-F9A9-4357-94D8-70E165B5B63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C93483E-8CF4-4B3D-B1E8-7497807856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06AD5D6-8DB9-4014-8BFC-8A399AA511D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991063D-DE5E-42C7-B9C9-AE594A9298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1349997-5B9D-46A4-8B3D-0A0F6DD34B5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05AF520-6671-4B1A-B04B-B34F0E5C1B0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84A96BF1-31F4-4A87-9AAF-10FB9978D66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3274247-EA60-4639-B9AE-3F650ED4B5F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9EBC948-9F2A-45AF-96A0-4AC8E8E07EE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4A3129B-F565-4902-A541-E45035A6B00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35CEA90-4D96-414A-A468-926A6EE67C8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D877E74-06BB-4CDC-B976-1541F00004F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78B617D1-13E9-4CEC-9954-5D94D32338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4750C76-D0C7-4FA9-8129-E0DC63AFEA3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F717F35-5DA9-4BE2-8881-8A2B65B9119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C35A412-18D9-4DDD-AF66-9FD304E4053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E108082-D434-45A1-BA65-01BCF4B8B98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AD4A762-4A15-494F-8DDB-8D3C12CF0FC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94113AB-AE03-4130-8EAE-097C80E0EFE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54BF06F7-EC7D-4574-9F45-2106A487A56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DF5590A0-8DF1-464D-BD5B-039F6BEF976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34FC90C-0CD0-4D0F-92A4-C1FA4BED307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AD7079C-59AE-4202-9E93-768FF00AA7A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8789AC5-687A-4176-B0FA-32E2EFB357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AF4E6AF-97CF-4E9E-A45E-6BF70834E4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283D06E-3E75-4563-8809-0A39E75CD21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4141F2E-4EA1-46EB-84D0-57DCA6D6006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E31D85AB-429F-4C0B-8C42-AA3F0C6E6C9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5DD19F5-7D80-4415-A3E8-A646AE55392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F733978-EBC6-4E4F-B2A0-81B55D3919A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493657D-78BD-4331-9F0B-F67E76F2EC2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0D2C493A-C7A7-40C9-B607-83D4274BF5C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A8E3E714-B091-4EF5-AB92-8939FDF8E4B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C34FF224-D57A-4750-8F06-0705D71A60D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A04099E-0640-4F3E-831B-98FA2A2533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1BDD4F9-805F-45B7-B7C0-4A1A0AC7A43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0A3D933-68D6-446C-991D-C6D1ABB5DAE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562459F-0D7A-44BB-ADB9-7AC3C7DC88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987F8A2-DD5C-4921-8434-0699144D564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23F89F0F-B7A9-46DA-95D0-27307483536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24E4C865-1D32-4B5D-9CE5-7DCF075AAD6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21890DE-5B87-4880-96EA-7C9AA962F75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E2E2575-AA41-4951-B38A-49F881445D6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1FDA23C6-58B4-4F56-B749-B4CDD71796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A3BFDDB-E031-49A4-9759-4017429D5BA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64EC112-EA9F-4757-A188-6CA3326DC7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2809188-D390-4F18-96FE-B475192F220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DA031CF-12EC-4729-99C8-23B6A3A8301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854B403-37F8-429F-B7AC-FB457EFE66A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6BDDD04-8A09-4837-91B0-FA6CA3870A6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BB13618-FC17-4E89-89EA-B658823F638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AAFD5CF-DE41-4D1E-B72F-2FFA8570ED9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3CE0BFC-76FD-467D-A125-DF824D44C9D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38964901-9067-4151-A32A-A832715A6D3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3FDCD9A-F4F9-4EA2-AC0E-ED3EDF7513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754390D-C1DE-4A36-95A6-9A7866FA36B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2640210-EF97-4D9B-934C-BEC285E44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113D9-4FAE-46BA-B2C9-64CD2CAAC2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809AB-F2C5-4885-88E0-CA66F486F3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7D336-A695-4401-8989-8CCB598260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9F1CF-DA9C-469C-BC5A-FE78D604D3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115BD-5079-4F86-AF96-36548FEA1AD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CCE177-5CCB-4F9E-A29A-DED23FD6A9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839A81-ACA4-440C-92C4-5DA2D353F2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8842E-15D3-42F7-A83E-EAD98E2335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157013-1941-4415-8623-1F3B959FE9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D23155-B51D-463A-8951-A6AE3CF7C0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8A1253-CF6D-4017-971E-0D40B3E92A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FBA62-9470-43B3-B9D0-31B319BCE4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B433F-FBDB-4EE7-856B-C92D03F96D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24 - 2025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85840" y="1071720"/>
            <a:ext cx="8534160" cy="47131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πιμέρους Στόχοι της 5</a:t>
            </a:r>
            <a:r>
              <a:rPr b="1" lang="el-GR" sz="2800" spc="-1" strike="noStrike" baseline="30000">
                <a:solidFill>
                  <a:srgbClr val="000000"/>
                </a:solidFill>
                <a:latin typeface="Times New Roman"/>
                <a:ea typeface="Arial"/>
              </a:rPr>
              <a:t>ης</a:t>
            </a:r>
            <a:r>
              <a:rPr b="1" lang="el-GR" sz="2800" spc="-1" strike="noStrike">
                <a:solidFill>
                  <a:srgbClr val="000000"/>
                </a:solidFill>
                <a:latin typeface="Times New Roman"/>
                <a:ea typeface="Arial"/>
              </a:rPr>
              <a:t> ενότητας που επιγράφεται : «Θεσμικό Πλαίσιο Συνδιδασκαλίας-Μοντέλα Ένταξης -Προβλήματα και προϋποθέσεις </a:t>
            </a:r>
            <a:br>
              <a:rPr sz="2800"/>
            </a:br>
            <a:r>
              <a:rPr b="1" lang="el-GR" sz="2800" spc="-1" strike="noStrike">
                <a:solidFill>
                  <a:srgbClr val="000000"/>
                </a:solidFill>
                <a:latin typeface="Times New Roman"/>
                <a:ea typeface="Arial"/>
              </a:rPr>
              <a:t>Σχολικής Ένταξης-Παράγοντες Σχολικής Ένταξης»</a:t>
            </a:r>
            <a:br>
              <a:rPr sz="2800"/>
            </a:br>
            <a:r>
              <a:rPr b="1" lang="el-GR" sz="2800" spc="-1" strike="noStrike">
                <a:solidFill>
                  <a:srgbClr val="000000"/>
                </a:solidFill>
                <a:latin typeface="Times New Roman"/>
                <a:ea typeface="Arial"/>
              </a:rPr>
              <a:t> </a:t>
            </a:r>
            <a:br>
              <a:rPr sz="2800"/>
            </a:br>
            <a:r>
              <a:rPr b="0" lang="el-GR" sz="2800" spc="-1" strike="noStrike">
                <a:solidFill>
                  <a:srgbClr val="000000"/>
                </a:solidFill>
                <a:latin typeface="Times New Roman"/>
              </a:rPr>
              <a:t>Θα παρουσιάσουμε και θα εστιάσουμε στη συνεκπαίδευση και στη συνδιδασκαλία </a:t>
            </a:r>
            <a:br>
              <a:rPr sz="2800"/>
            </a:br>
            <a:r>
              <a:rPr b="0" lang="el-GR" sz="2800" spc="-1" strike="noStrike">
                <a:solidFill>
                  <a:srgbClr val="000000"/>
                </a:solidFill>
                <a:latin typeface="Times New Roman"/>
              </a:rPr>
              <a:t>ως  μια  </a:t>
            </a:r>
            <a:r>
              <a:rPr b="1" lang="el-GR" sz="2800" spc="-1" strike="noStrike">
                <a:solidFill>
                  <a:srgbClr val="000000"/>
                </a:solidFill>
                <a:latin typeface="Times New Roman"/>
              </a:rPr>
              <a:t>μορφή ένταξης και 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57120" y="1392120"/>
            <a:ext cx="83581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ίναι ένας τρόπος να μειωθούν τα προβλήματα αποκλεισμού και να παρέχουμε υπηρεσίες στα παιδιά με ειδικές εκπαιδευτικές ανάγκες. </a:t>
            </a:r>
            <a:br>
              <a:rPr sz="2800"/>
            </a:br>
            <a:br>
              <a:rPr sz="2800"/>
            </a:br>
            <a:r>
              <a:rPr b="0" lang="el-GR" sz="2800" spc="-1" strike="noStrike">
                <a:solidFill>
                  <a:srgbClr val="000000"/>
                </a:solidFill>
                <a:latin typeface="Times New Roman"/>
              </a:rPr>
              <a:t> Η συνδιδασκαλία είναι μία πρόταση με θετικά στοιχεία, καθώς απαιτείται </a:t>
            </a:r>
            <a:r>
              <a:rPr b="1" lang="el-GR" sz="2800" spc="-1" strike="noStrike">
                <a:solidFill>
                  <a:srgbClr val="000000"/>
                </a:solidFill>
                <a:latin typeface="Times New Roman"/>
              </a:rPr>
              <a:t>συνεργασία των εκπαιδευτικών γενικής και ειδικής αγωγής, </a:t>
            </a:r>
            <a:br>
              <a:rPr sz="2800"/>
            </a:br>
            <a:r>
              <a:rPr b="1" lang="el-GR" sz="2800" spc="-1" strike="noStrike">
                <a:solidFill>
                  <a:srgbClr val="000000"/>
                </a:solidFill>
                <a:latin typeface="Times New Roman"/>
              </a:rPr>
              <a:t>αλλά και η συνεργασία ειδικών </a:t>
            </a:r>
            <a:br>
              <a:rPr sz="2800"/>
            </a:br>
            <a:r>
              <a:rPr b="1" lang="el-GR" sz="2800" spc="-1" strike="noStrike">
                <a:solidFill>
                  <a:srgbClr val="000000"/>
                </a:solidFill>
                <a:latin typeface="Times New Roman"/>
              </a:rPr>
              <a:t>διάφορων ειδικοτήτων.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00040" y="1392120"/>
            <a:ext cx="79596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καταιγισμούς ιδεών, παιχνίδι ρόλων,</a:t>
            </a:r>
            <a:br>
              <a:rPr sz="2800"/>
            </a:br>
            <a:r>
              <a:rPr b="0" i="1" lang="el-GR" sz="2800" spc="-1" strike="noStrike">
                <a:solidFill>
                  <a:srgbClr val="000000"/>
                </a:solidFill>
                <a:latin typeface="Times New Roman"/>
              </a:rPr>
              <a:t> αντιπαράθεση απόψεων, κλπ</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ι τη 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ορίζετε τη μορφή της  συνδιδασκαλίας,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 είναι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a:t>
            </a:r>
            <a:br>
              <a:rPr sz="2800"/>
            </a:br>
            <a:r>
              <a:rPr b="0" i="1" lang="el-GR" sz="2800" spc="-1" strike="noStrike">
                <a:solidFill>
                  <a:srgbClr val="000000"/>
                </a:solidFill>
                <a:latin typeface="Times New Roman"/>
              </a:rPr>
              <a:t>την οποία διαχειρίζονται από κοινού και έχουν ως σκοπό την προσέγγιση από όλους τους μαθητές,</a:t>
            </a:r>
            <a:br>
              <a:rPr sz="2800"/>
            </a:br>
            <a:r>
              <a:rPr b="0" i="1" lang="el-GR" sz="2800" spc="-1" strike="noStrike">
                <a:solidFill>
                  <a:srgbClr val="000000"/>
                </a:solidFill>
                <a:latin typeface="Times New Roman"/>
              </a:rPr>
              <a:t> με ειδικές εκπαιδευτικές ανάγκες και αναπηρίες αλλά και χωρίς»</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θέτετε τους Στόχους της συνδιδασκαλίας, όπως :</a:t>
            </a:r>
            <a:br>
              <a:rPr sz="2800"/>
            </a:br>
            <a:br>
              <a:rPr sz="2800"/>
            </a:br>
            <a:r>
              <a:rPr b="0" lang="el-GR" sz="2800" spc="-1" strike="noStrike">
                <a:solidFill>
                  <a:srgbClr val="000000"/>
                </a:solidFill>
                <a:latin typeface="Times New Roman"/>
              </a:rPr>
              <a:t>Αύξηση των εκπαιδευτικών επιλογών  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των μαθητών αμεα,</a:t>
            </a:r>
            <a:br>
              <a:rPr sz="2800"/>
            </a:br>
            <a:br>
              <a:rPr sz="2800"/>
            </a:br>
            <a:r>
              <a:rPr b="0" lang="el-GR" sz="2800" spc="-1" strike="noStrike">
                <a:solidFill>
                  <a:srgbClr val="000000"/>
                </a:solidFill>
                <a:latin typeface="Times New Roman"/>
              </a:rPr>
              <a:t>Βελτίωση της απόδοσης στο σχολείο  των μαθητών αμεα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α πλαίσια  </a:t>
            </a:r>
            <a:br>
              <a:rPr sz="2800"/>
            </a:br>
            <a:r>
              <a:rPr b="1" lang="el-GR" sz="2800" spc="-1" strike="noStrike">
                <a:solidFill>
                  <a:srgbClr val="000000"/>
                </a:solidFill>
                <a:latin typeface="Times New Roman"/>
              </a:rPr>
              <a:t>συνεργασίας ειδικού και γενικού παιδαγωγού ,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αποτελεί πρόκληση για την εκπαιδευτική κοινότητα,  και η οποία </a:t>
            </a:r>
            <a:r>
              <a:rPr b="1" lang="el-GR" sz="2800" spc="-1" strike="noStrike">
                <a:solidFill>
                  <a:srgbClr val="000000"/>
                </a:solidFill>
                <a:latin typeface="Times New Roman"/>
              </a:rPr>
              <a:t>προωθεί τη συνεκπαίδευση και τη συνδιδασκαλία</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α </a:t>
            </a:r>
            <a:br>
              <a:rPr sz="2800"/>
            </a:br>
            <a:r>
              <a:rPr b="1" lang="el-GR" sz="2800" spc="-1" strike="noStrike">
                <a:solidFill>
                  <a:srgbClr val="000000"/>
                </a:solidFill>
                <a:latin typeface="Times New Roman"/>
              </a:rPr>
              <a:t>χαρακτηριστικά που διέπουν την συνδιδασκαλί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α Μειονεκτήματα και τα  Πλεονεκτήματα της Συνδιδασκαλία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ους  τύπους συνδιδασκαλίας  και να περιγράφετε τους ρόλους των εκπαιδευτικών </a:t>
            </a:r>
            <a:br>
              <a:rPr sz="2800"/>
            </a:br>
            <a:r>
              <a:rPr b="1" lang="el-GR" sz="2800" spc="-1" strike="noStrike">
                <a:solidFill>
                  <a:srgbClr val="000000"/>
                </a:solidFill>
                <a:latin typeface="Times New Roman"/>
              </a:rPr>
              <a:t>[των συν-διδασκάλων]</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το Θεσμικό Πλαίσιο  συνδιδασκαλίας στην χώρα μας</a:t>
            </a:r>
            <a:br>
              <a:rPr sz="2800"/>
            </a:br>
            <a:br>
              <a:rPr sz="2800"/>
            </a:br>
            <a:r>
              <a:rPr b="0" lang="el-GR" sz="2800" spc="-1" strike="noStrike">
                <a:solidFill>
                  <a:srgbClr val="000000"/>
                </a:solidFill>
                <a:latin typeface="Times New Roman"/>
              </a:rPr>
              <a:t> Να συνειδητοποιήσετε πως λειτουργεί </a:t>
            </a:r>
            <a:br>
              <a:rPr sz="2800"/>
            </a:br>
            <a:r>
              <a:rPr b="1" lang="el-GR" sz="2800" spc="-1" strike="noStrike">
                <a:solidFill>
                  <a:srgbClr val="000000"/>
                </a:solidFill>
                <a:latin typeface="Times New Roman"/>
              </a:rPr>
              <a:t>η συνδιδασκαλία στην Ελληνική πραγματικότητα</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ΝΟΤΗΤΑ 5</a:t>
            </a:r>
            <a:r>
              <a:rPr b="1" lang="el-GR" sz="2800" spc="-1" strike="noStrike" baseline="30000">
                <a:solidFill>
                  <a:srgbClr val="000000"/>
                </a:solidFill>
                <a:latin typeface="Times New Roman"/>
                <a:ea typeface="Arial"/>
              </a:rPr>
              <a:t>Η</a:t>
            </a:r>
            <a:br>
              <a:rPr sz="2800"/>
            </a:br>
            <a:br>
              <a:rPr sz="2800"/>
            </a:br>
            <a:r>
              <a:rPr b="1" lang="el-GR" sz="2800" spc="-1" strike="noStrike">
                <a:solidFill>
                  <a:srgbClr val="000000"/>
                </a:solidFill>
                <a:latin typeface="Times New Roman"/>
                <a:ea typeface="Arial"/>
              </a:rPr>
              <a:t>Θεσμικό Πλαίσιο Συνδιδασκαλίας</a:t>
            </a:r>
            <a:br>
              <a:rPr sz="2800"/>
            </a:br>
            <a:r>
              <a:rPr b="1" lang="el-GR" sz="2800" spc="-1" strike="noStrike">
                <a:solidFill>
                  <a:srgbClr val="000000"/>
                </a:solidFill>
                <a:latin typeface="Times New Roman"/>
                <a:ea typeface="Arial"/>
              </a:rPr>
              <a:t>Μοντέλα Ένταξης </a:t>
            </a:r>
            <a:br>
              <a:rPr sz="2800"/>
            </a:br>
            <a:r>
              <a:rPr b="1" lang="el-GR" sz="2800" spc="-1" strike="noStrike">
                <a:solidFill>
                  <a:srgbClr val="000000"/>
                </a:solidFill>
                <a:latin typeface="Times New Roman"/>
                <a:ea typeface="Arial"/>
              </a:rPr>
              <a:t>Προβλήματα και προϋποθέσεις </a:t>
            </a:r>
            <a:br>
              <a:rPr sz="2800"/>
            </a:br>
            <a:r>
              <a:rPr b="1" lang="el-GR" sz="2800" spc="-1" strike="noStrike">
                <a:solidFill>
                  <a:srgbClr val="000000"/>
                </a:solidFill>
                <a:latin typeface="Times New Roman"/>
                <a:ea typeface="Arial"/>
              </a:rPr>
              <a:t>Σχολικής Ένταξης</a:t>
            </a:r>
            <a:br>
              <a:rPr sz="2800"/>
            </a:br>
            <a:r>
              <a:rPr b="1" lang="el-GR" sz="2800" spc="-1" strike="noStrike">
                <a:solidFill>
                  <a:srgbClr val="000000"/>
                </a:solidFill>
                <a:latin typeface="Times New Roman"/>
                <a:ea typeface="Arial"/>
              </a:rPr>
              <a:t>Παράγοντες Σχολικής Ένταξης</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800"/>
            </a:br>
            <a:r>
              <a:rPr b="1" lang="el-GR" sz="2800" spc="-1" strike="noStrike">
                <a:solidFill>
                  <a:srgbClr val="000000"/>
                </a:solidFill>
                <a:latin typeface="Times New Roman"/>
                <a:ea typeface="Arial"/>
              </a:rPr>
              <a:t> </a:t>
            </a:r>
            <a:br>
              <a:rPr sz="2800"/>
            </a:br>
            <a:endParaRPr b="0" lang="en-US" sz="2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ους Ρόλους  </a:t>
            </a:r>
            <a:br>
              <a:rPr sz="2800"/>
            </a:br>
            <a:r>
              <a:rPr b="1" lang="el-GR" sz="2800" spc="-1" strike="noStrike">
                <a:solidFill>
                  <a:srgbClr val="000000"/>
                </a:solidFill>
                <a:latin typeface="Times New Roman"/>
              </a:rPr>
              <a:t>των εκπαιδευτικών στην κυρίαρχη μορφή </a:t>
            </a:r>
            <a:br>
              <a:rPr sz="2800"/>
            </a:br>
            <a:r>
              <a:rPr b="1" lang="el-GR" sz="2800" spc="-1" strike="noStrike">
                <a:solidFill>
                  <a:srgbClr val="000000"/>
                </a:solidFill>
                <a:latin typeface="Times New Roman"/>
              </a:rPr>
              <a:t>της συνδιδασκαλίας ,την  Παράλληλη Στήριξη</a:t>
            </a:r>
            <a:br>
              <a:rPr sz="20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Να συσχετίζετε τα Μοντέλα Σχολικής Ένταξης</a:t>
            </a:r>
            <a:r>
              <a:rPr b="0" lang="el-GR" sz="2800" spc="-1" strike="noStrike">
                <a:solidFill>
                  <a:srgbClr val="000000"/>
                </a:solidFill>
                <a:latin typeface="Times New Roman"/>
              </a:rPr>
              <a:t> των μαθητών με ειδικές εκπαιδευτικές ανάγκες </a:t>
            </a:r>
            <a:br>
              <a:rPr sz="2800"/>
            </a:br>
            <a:r>
              <a:rPr b="0" lang="el-GR" sz="2800" spc="-1" strike="noStrike">
                <a:solidFill>
                  <a:srgbClr val="000000"/>
                </a:solidFill>
                <a:latin typeface="Times New Roman"/>
              </a:rPr>
              <a:t>στα  οποία αποτυπώνεται η εκπαιδευτική πολιτική</a:t>
            </a:r>
            <a:br>
              <a:rPr sz="2800"/>
            </a:br>
            <a:r>
              <a:rPr b="0" lang="el-GR" sz="2800" spc="-1" strike="noStrike">
                <a:solidFill>
                  <a:srgbClr val="000000"/>
                </a:solidFill>
                <a:latin typeface="Times New Roman"/>
              </a:rPr>
              <a:t>που προωθείται σε κάθε χώρα </a:t>
            </a:r>
            <a:br>
              <a:rPr sz="2800"/>
            </a:br>
            <a:r>
              <a:rPr b="0" lang="el-GR" sz="2800" spc="-1" strike="noStrike">
                <a:solidFill>
                  <a:srgbClr val="000000"/>
                </a:solidFill>
                <a:latin typeface="Times New Roman"/>
              </a:rPr>
              <a:t>για τα άτομα με αναπηρία.</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επιχειρείτε την ταξινόμηση </a:t>
            </a:r>
            <a:br>
              <a:rPr sz="2800"/>
            </a:br>
            <a:r>
              <a:rPr b="0" lang="el-GR" sz="2800" spc="-1" strike="noStrike">
                <a:solidFill>
                  <a:srgbClr val="000000"/>
                </a:solidFill>
                <a:latin typeface="Times New Roman"/>
              </a:rPr>
              <a:t>των </a:t>
            </a:r>
            <a:r>
              <a:rPr b="1" lang="el-GR" sz="2800" spc="-1" strike="noStrike">
                <a:solidFill>
                  <a:srgbClr val="000000"/>
                </a:solidFill>
                <a:latin typeface="Times New Roman"/>
              </a:rPr>
              <a:t>μοντέλων ένταξης</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τη Σχολική Κουλτούρα.</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εριγράφετε την  κουλτούρα , </a:t>
            </a:r>
            <a:br>
              <a:rPr sz="2800"/>
            </a:br>
            <a:r>
              <a:rPr b="1" lang="el-GR" sz="2800" spc="-1" strike="noStrike">
                <a:solidFill>
                  <a:srgbClr val="000000"/>
                </a:solidFill>
                <a:latin typeface="Times New Roman"/>
              </a:rPr>
              <a:t>η οποί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εξηγείτε και να επισημαίνετε ότι </a:t>
            </a:r>
            <a:br>
              <a:rPr sz="2800"/>
            </a:b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τιπαραβάλλετε  τα κυρίαρχα είδη  σχολικής κουλτούρας  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a:t>
            </a:r>
            <a:br>
              <a:rPr sz="2800"/>
            </a:br>
            <a:r>
              <a:rPr b="0" lang="el-GR" sz="2800" spc="-1" strike="noStrike">
                <a:solidFill>
                  <a:srgbClr val="000000"/>
                </a:solidFill>
                <a:latin typeface="Times New Roman"/>
              </a:rPr>
              <a:t>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είναι </a:t>
            </a: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 οι οποίοι είναι </a:t>
            </a:r>
            <a:r>
              <a:rPr b="0" lang="el-GR" sz="2800" spc="-1" strike="noStrike">
                <a:solidFill>
                  <a:srgbClr val="000000"/>
                </a:solidFill>
                <a:latin typeface="Times New Roman"/>
              </a:rPr>
              <a:t>υπεύθυνοι για την υιοθέτηση, διαμόρφωση και </a:t>
            </a:r>
            <a:br>
              <a:rPr sz="2800"/>
            </a:br>
            <a:r>
              <a:rPr b="0" lang="el-GR" sz="2800" spc="-1" strike="noStrike">
                <a:solidFill>
                  <a:srgbClr val="000000"/>
                </a:solidFill>
                <a:latin typeface="Times New Roman"/>
              </a:rPr>
              <a:t>την προώθηση της σχολικής κουλτούρας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a:t>
            </a:r>
            <a:r>
              <a:rPr b="0" lang="el-GR" sz="2800" spc="-1" strike="noStrike">
                <a:solidFill>
                  <a:srgbClr val="000000"/>
                </a:solidFill>
                <a:latin typeface="Times New Roman"/>
              </a:rPr>
              <a:t>όπως είναι </a:t>
            </a:r>
            <a:br>
              <a:rPr sz="2800"/>
            </a:br>
            <a:r>
              <a:rPr b="0" lang="el-GR" sz="2800" spc="-1" strike="noStrike">
                <a:solidFill>
                  <a:srgbClr val="000000"/>
                </a:solidFill>
                <a:latin typeface="Times New Roman"/>
              </a:rPr>
              <a:t> </a:t>
            </a:r>
            <a:r>
              <a:rPr b="1" lang="el-GR" sz="2800" spc="-1" strike="noStrike">
                <a:solidFill>
                  <a:srgbClr val="000000"/>
                </a:solidFill>
                <a:latin typeface="Times New Roman"/>
              </a:rPr>
              <a:t>ο ρόλος των γονέων και των κηδεμόνων </a:t>
            </a:r>
            <a:br>
              <a:rPr sz="2800"/>
            </a:br>
            <a:r>
              <a:rPr b="0" lang="el-GR" sz="2800" spc="-1" strike="noStrike">
                <a:solidFill>
                  <a:srgbClr val="000000"/>
                </a:solidFill>
                <a:latin typeface="Times New Roman"/>
              </a:rPr>
              <a:t>στην προώθηση των διαδικασιών της ένταξης ,</a:t>
            </a:r>
            <a:br>
              <a:rPr sz="2800"/>
            </a:br>
            <a:r>
              <a:rPr b="0" lang="el-GR" sz="2800" spc="-1" strike="noStrike">
                <a:solidFill>
                  <a:srgbClr val="000000"/>
                </a:solidFill>
                <a:latin typeface="Times New Roman"/>
              </a:rPr>
              <a:t>που αναγνωρίζεται ως καθοριστικός . </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a:t>
            </a:r>
            <a:br>
              <a:rPr sz="2800"/>
            </a:br>
            <a:r>
              <a:rPr b="1" lang="el-GR" sz="2800" spc="-1" strike="noStrike">
                <a:solidFill>
                  <a:srgbClr val="000000"/>
                </a:solidFill>
                <a:latin typeface="Times New Roman"/>
              </a:rPr>
              <a:t> οι ειδικοί επαγγελματίες  </a:t>
            </a:r>
            <a:br>
              <a:rPr sz="2800"/>
            </a:br>
            <a:r>
              <a:rPr b="1" lang="el-GR" sz="2800" spc="-1" strike="noStrike">
                <a:solidFill>
                  <a:srgbClr val="000000"/>
                </a:solidFill>
                <a:latin typeface="Times New Roman"/>
              </a:rPr>
              <a:t>στους οποίους περιλαμβάνονται </a:t>
            </a:r>
            <a:br>
              <a:rPr sz="2800"/>
            </a:br>
            <a:r>
              <a:rPr b="1" lang="el-GR" sz="2800" spc="-1" strike="noStrike">
                <a:solidFill>
                  <a:srgbClr val="000000"/>
                </a:solidFill>
                <a:latin typeface="Times New Roman"/>
              </a:rPr>
              <a:t>οι σχολικοί ψυχολόγοι, </a:t>
            </a:r>
            <a:r>
              <a:rPr b="0" lang="el-GR" sz="2800" spc="-1" strike="noStrike">
                <a:solidFill>
                  <a:srgbClr val="000000"/>
                </a:solidFill>
                <a:latin typeface="Times New Roman"/>
              </a:rPr>
              <a:t>οι οποίοι συνεργάζονται επίσης με λογοθεραπευτές, εργοθεραπευτές, σχολικούς συμβούλους/συντονιστές εκπαιδευτικού έργου, οικογενειακούς θεραπευτές. </a:t>
            </a:r>
            <a:br>
              <a:rPr sz="2800"/>
            </a:b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400"/>
            </a:br>
            <a:br>
              <a:rPr sz="2800"/>
            </a:br>
            <a:endParaRPr b="0" lang="en-US" sz="24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ο ρόλο </a:t>
            </a:r>
            <a:br>
              <a:rPr sz="2800"/>
            </a:br>
            <a:r>
              <a:rPr b="0" lang="el-GR" sz="2800" spc="-1" strike="noStrike">
                <a:solidFill>
                  <a:srgbClr val="000000"/>
                </a:solidFill>
                <a:latin typeface="Times New Roman"/>
              </a:rPr>
              <a:t>των  Σχολικών Ψυχολόγων  οι οποί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a:t>
            </a:r>
            <a:br>
              <a:rPr sz="2800"/>
            </a:br>
            <a:r>
              <a:rPr b="0" lang="el-GR" sz="2800" spc="-1" strike="noStrike">
                <a:solidFill>
                  <a:srgbClr val="000000"/>
                </a:solidFill>
                <a:latin typeface="Times New Roman"/>
              </a:rPr>
              <a:t>με ειδικές ανάγκες σε πολλά επίπεδα.</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η συμμετοχή μαθητών αμεα </a:t>
            </a:r>
            <a:br>
              <a:rPr sz="2800"/>
            </a:br>
            <a:r>
              <a:rPr b="1" lang="el-GR" sz="2800" spc="-1" strike="noStrike">
                <a:solidFill>
                  <a:srgbClr val="000000"/>
                </a:solidFill>
                <a:latin typeface="Times New Roman"/>
              </a:rPr>
              <a:t>σε εξωσχολικές δραστηριότητες.</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Να αναγνωρίζετε  ότι η συμμετοχή μαθητών αμεα σε εξωσχολικές δραστηριότητες </a:t>
            </a:r>
            <a:br>
              <a:rPr sz="2800"/>
            </a:br>
            <a:r>
              <a:rPr b="0" lang="el-GR" sz="2800" spc="-1" strike="noStrike">
                <a:solidFill>
                  <a:srgbClr val="000000"/>
                </a:solidFill>
                <a:latin typeface="Times New Roman"/>
              </a:rPr>
              <a:t>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a:t>
            </a:r>
            <a:br>
              <a:rPr sz="2800"/>
            </a:br>
            <a:r>
              <a:rPr b="0" lang="el-GR" sz="2800" spc="-1" strike="noStrike">
                <a:solidFill>
                  <a:srgbClr val="000000"/>
                </a:solidFill>
                <a:latin typeface="Times New Roman"/>
              </a:rPr>
              <a:t>ενδ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σημαίνετε ότι 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a:t>
            </a:r>
            <a:br>
              <a:rPr sz="2800"/>
            </a:br>
            <a:r>
              <a:rPr b="0" lang="el-GR" sz="2800" spc="-1" strike="noStrike">
                <a:solidFill>
                  <a:srgbClr val="000000"/>
                </a:solidFill>
                <a:latin typeface="Times New Roman"/>
              </a:rPr>
              <a:t>οι εξωσχολικές δραστηριότητες </a:t>
            </a:r>
            <a:br>
              <a:rPr sz="2800"/>
            </a:br>
            <a:r>
              <a:rPr b="0" lang="el-GR" sz="2800" spc="-1" strike="noStrike">
                <a:solidFill>
                  <a:srgbClr val="000000"/>
                </a:solidFill>
                <a:latin typeface="Times New Roman"/>
              </a:rPr>
              <a:t>συμβάλλουν καθοριστικά στην ένταξη τους </a:t>
            </a:r>
            <a:br>
              <a:rPr sz="2800"/>
            </a:br>
            <a:r>
              <a:rPr b="0" lang="el-GR" sz="2800" spc="-1" strike="noStrike">
                <a:solidFill>
                  <a:srgbClr val="000000"/>
                </a:solidFill>
                <a:latin typeface="Times New Roman"/>
              </a:rPr>
              <a:t>στο σχολικό περιβάλλον.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ΕΞΕΙΣ-ΚΛΕΙΔΙΑ</a:t>
            </a:r>
            <a:br>
              <a:rPr sz="2800"/>
            </a:br>
            <a:br>
              <a:rPr sz="2800"/>
            </a:br>
            <a:r>
              <a:rPr b="1" lang="el-GR" sz="2800" spc="-1" strike="noStrike">
                <a:solidFill>
                  <a:srgbClr val="000000"/>
                </a:solidFill>
                <a:latin typeface="Times New Roman"/>
              </a:rPr>
              <a:t> Η συνδιδασκαλία</a:t>
            </a:r>
            <a:r>
              <a:rPr b="0" lang="el-GR" sz="2800" spc="-1" strike="noStrike">
                <a:solidFill>
                  <a:srgbClr val="000000"/>
                </a:solidFill>
                <a:latin typeface="Times New Roman"/>
              </a:rPr>
              <a:t>  και η συνεκπαίδευση,</a:t>
            </a:r>
            <a:br>
              <a:rPr sz="2800"/>
            </a:br>
            <a:r>
              <a:rPr b="1" lang="el-GR" sz="2800" spc="-1" strike="noStrike">
                <a:solidFill>
                  <a:srgbClr val="000000"/>
                </a:solidFill>
                <a:latin typeface="Times New Roman"/>
              </a:rPr>
              <a:t> Χαρακτηριστικά  Συνδιδασκαλίας,</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Τύποι συνδιδασκαλίας,  </a:t>
            </a:r>
            <a:br>
              <a:rPr sz="2800"/>
            </a:br>
            <a:r>
              <a:rPr b="1" lang="el-GR" sz="2800" spc="-1" strike="noStrike">
                <a:solidFill>
                  <a:srgbClr val="000000"/>
                </a:solidFill>
                <a:latin typeface="Times New Roman"/>
              </a:rPr>
              <a:t>  Ρόλοι  Εκπαιδευτικών /Συν-διδασκάλων</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Μοντέλα Σχολικής Ένταξης, </a:t>
            </a:r>
            <a:br>
              <a:rPr sz="2800"/>
            </a:br>
            <a:r>
              <a:rPr b="1" lang="el-GR" sz="2800" spc="-1" strike="noStrike">
                <a:solidFill>
                  <a:srgbClr val="000000"/>
                </a:solidFill>
                <a:latin typeface="Times New Roman"/>
                <a:ea typeface="Arial"/>
              </a:rPr>
              <a:t>Παράγοντες Διαμόρφωσης της Σχολικής Ένταξης , </a:t>
            </a:r>
            <a:br>
              <a:rPr sz="2800"/>
            </a:br>
            <a:r>
              <a:rPr b="1" lang="el-GR" sz="2800" spc="-1" strike="noStrike">
                <a:solidFill>
                  <a:srgbClr val="000000"/>
                </a:solidFill>
                <a:latin typeface="Times New Roman"/>
                <a:ea typeface="Arial"/>
              </a:rPr>
              <a:t>η  Σχολική Κουλτούρα,</a:t>
            </a:r>
            <a:r>
              <a:rPr b="1" lang="el-GR" sz="2800" spc="-1" strike="noStrike">
                <a:solidFill>
                  <a:srgbClr val="000000"/>
                </a:solidFill>
                <a:latin typeface="Times New Roman"/>
              </a:rPr>
              <a:t> </a:t>
            </a:r>
            <a:br>
              <a:rPr sz="2800"/>
            </a:br>
            <a:r>
              <a:rPr b="1" lang="el-GR" sz="2800" spc="-1" strike="noStrike">
                <a:solidFill>
                  <a:srgbClr val="000000"/>
                </a:solidFill>
                <a:latin typeface="Times New Roman"/>
              </a:rPr>
              <a:t>O ρόλος του Εκπαιδευτικού Προσωπικού,</a:t>
            </a:r>
            <a:r>
              <a:rPr b="1" lang="en-US" sz="2800" spc="-1" strike="noStrike">
                <a:solidFill>
                  <a:srgbClr val="000000"/>
                </a:solidFill>
                <a:latin typeface="Times New Roman"/>
                <a:ea typeface="Arial"/>
              </a:rPr>
              <a:t> </a:t>
            </a: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r>
              <a:rPr b="1" lang="en-US" sz="2800" spc="-1" strike="noStrike">
                <a:solidFill>
                  <a:srgbClr val="000000"/>
                </a:solidFill>
                <a:latin typeface="Times New Roman"/>
              </a:rPr>
              <a:t> </a:t>
            </a:r>
            <a:r>
              <a:rPr b="1" lang="el-GR" sz="2800" spc="-1" strike="noStrike">
                <a:solidFill>
                  <a:srgbClr val="000000"/>
                </a:solidFill>
                <a:latin typeface="Times New Roman"/>
              </a:rPr>
              <a:t>,</a:t>
            </a:r>
            <a:br>
              <a:rPr sz="2800"/>
            </a:br>
            <a:r>
              <a:rPr b="1" lang="en-US" sz="2800" spc="-1" strike="noStrike">
                <a:solidFill>
                  <a:srgbClr val="000000"/>
                </a:solidFill>
                <a:latin typeface="Times New Roman"/>
              </a:rPr>
              <a:t>O </a:t>
            </a:r>
            <a:r>
              <a:rPr b="1" lang="el-GR" sz="2800" spc="-1" strike="noStrike">
                <a:solidFill>
                  <a:srgbClr val="000000"/>
                </a:solidFill>
                <a:latin typeface="Times New Roman"/>
              </a:rPr>
              <a:t>ρόλος  των ειδικών επαγγελματιών </a:t>
            </a:r>
            <a:br>
              <a:rPr sz="2800"/>
            </a:br>
            <a:r>
              <a:rPr b="1" lang="el-GR" sz="2800" spc="-1" strike="noStrike">
                <a:solidFill>
                  <a:srgbClr val="000000"/>
                </a:solidFill>
                <a:latin typeface="Times New Roman"/>
              </a:rPr>
              <a:t>[π.χ του ψυχολόγου, κλπ], </a:t>
            </a:r>
            <a:br>
              <a:rPr sz="2800"/>
            </a:br>
            <a:r>
              <a:rPr b="1" lang="el-GR" sz="2800" spc="-1" strike="noStrike">
                <a:solidFill>
                  <a:srgbClr val="000000"/>
                </a:solidFill>
                <a:latin typeface="Times New Roman"/>
              </a:rPr>
              <a:t>Εξωσχολικές Κοινωνικές Δραστηριότητες</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56" name="" descr=""/>
          <p:cNvPicPr/>
          <p:nvPr/>
        </p:nvPicPr>
        <p:blipFill>
          <a:blip r:embed="rId1"/>
          <a:stretch/>
        </p:blipFill>
        <p:spPr>
          <a:xfrm>
            <a:off x="0" y="0"/>
            <a:ext cx="9144000" cy="1368360"/>
          </a:xfrm>
          <a:prstGeom prst="rect">
            <a:avLst/>
          </a:prstGeom>
          <a:ln w="0">
            <a:noFill/>
          </a:ln>
        </p:spPr>
      </p:pic>
      <p:pic>
        <p:nvPicPr>
          <p:cNvPr id="857" name="" descr=""/>
          <p:cNvPicPr/>
          <p:nvPr/>
        </p:nvPicPr>
        <p:blipFill>
          <a:blip r:embed="rId2"/>
          <a:stretch/>
        </p:blipFill>
        <p:spPr>
          <a:xfrm>
            <a:off x="1258920" y="2060640"/>
            <a:ext cx="1297080" cy="1528560"/>
          </a:xfrm>
          <a:prstGeom prst="rect">
            <a:avLst/>
          </a:prstGeom>
          <a:ln w="0">
            <a:noFill/>
          </a:ln>
        </p:spPr>
      </p:pic>
      <p:pic>
        <p:nvPicPr>
          <p:cNvPr id="858" name="" descr=""/>
          <p:cNvPicPr/>
          <p:nvPr/>
        </p:nvPicPr>
        <p:blipFill>
          <a:blip r:embed="rId3"/>
          <a:stretch/>
        </p:blipFill>
        <p:spPr>
          <a:xfrm>
            <a:off x="6948360" y="1989000"/>
            <a:ext cx="1444680" cy="1573200"/>
          </a:xfrm>
          <a:prstGeom prst="rect">
            <a:avLst/>
          </a:prstGeom>
          <a:ln w="0">
            <a:noFill/>
          </a:ln>
        </p:spPr>
      </p:pic>
      <p:sp>
        <p:nvSpPr>
          <p:cNvPr id="859"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86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Η</a:t>
            </a:r>
            <a:br>
              <a:rPr sz="2800"/>
            </a:b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αφορά παιδαγωγικές θεωρήσεις και πρακτικές μέσα από τις οποίες αναγνωρίζεται </a:t>
            </a:r>
            <a:br>
              <a:rPr sz="2800"/>
            </a:br>
            <a:r>
              <a:rPr b="0" lang="el-GR" sz="2800" spc="-1" strike="noStrike">
                <a:solidFill>
                  <a:srgbClr val="000000"/>
                </a:solidFill>
                <a:latin typeface="Times New Roman"/>
              </a:rPr>
              <a:t>το δικαίωμα της διαφορετικότητας, </a:t>
            </a:r>
            <a:br>
              <a:rPr sz="2800"/>
            </a:br>
            <a:r>
              <a:rPr b="0" lang="el-GR" sz="2800" spc="-1" strike="noStrike">
                <a:solidFill>
                  <a:srgbClr val="000000"/>
                </a:solidFill>
                <a:latin typeface="Times New Roman"/>
              </a:rPr>
              <a:t>αίρονται τα στερεότυπα και</a:t>
            </a:r>
            <a:br>
              <a:rPr sz="2800"/>
            </a:br>
            <a:r>
              <a:rPr b="0" lang="el-GR" sz="2800" spc="-1" strike="noStrike">
                <a:solidFill>
                  <a:srgbClr val="000000"/>
                </a:solidFill>
                <a:latin typeface="Times New Roman"/>
              </a:rPr>
              <a:t> δίνεται η δυνατότητα ισότιμης συμμετοχής </a:t>
            </a:r>
            <a:br>
              <a:rPr sz="2800"/>
            </a:br>
            <a:r>
              <a:rPr b="0" lang="el-GR" sz="2800" spc="-1" strike="noStrike">
                <a:solidFill>
                  <a:srgbClr val="000000"/>
                </a:solidFill>
                <a:latin typeface="Times New Roman"/>
              </a:rPr>
              <a:t>στην πολιτική και κοινωνική ζωή </a:t>
            </a:r>
            <a:br>
              <a:rPr sz="2800"/>
            </a:br>
            <a:r>
              <a:rPr b="0" lang="el-GR" sz="2800" spc="-1" strike="noStrike">
                <a:solidFill>
                  <a:srgbClr val="000000"/>
                </a:solidFill>
                <a:latin typeface="Times New Roman"/>
              </a:rPr>
              <a:t>σε όλους τους μαθητές.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συγγραφείς, αρθογράφοι, ερευνητές,</a:t>
            </a:r>
            <a:br>
              <a:rPr sz="2800"/>
            </a:br>
            <a:r>
              <a:rPr b="0" lang="el-GR" sz="2800" spc="-1" strike="noStrike">
                <a:solidFill>
                  <a:srgbClr val="000000"/>
                </a:solidFill>
                <a:latin typeface="Times New Roman"/>
              </a:rPr>
              <a:t> εκπαιδευτικοί και άλλοι]</a:t>
            </a:r>
            <a:br>
              <a:rPr sz="2800"/>
            </a:br>
            <a:r>
              <a:rPr b="0" lang="el-GR" sz="2800" spc="-1" strike="noStrike">
                <a:solidFill>
                  <a:srgbClr val="000000"/>
                </a:solidFill>
                <a:latin typeface="Times New Roman"/>
              </a:rPr>
              <a:t>που ασχολούνται με την </a:t>
            </a:r>
            <a:r>
              <a:rPr b="1" lang="el-GR" sz="2800" spc="-1" strike="noStrike">
                <a:solidFill>
                  <a:srgbClr val="000000"/>
                </a:solidFill>
                <a:latin typeface="Times New Roman"/>
              </a:rPr>
              <a:t>Παιδαγωγική της Ένταξης υποστηρίζουν </a:t>
            </a:r>
            <a:br>
              <a:rPr sz="2800"/>
            </a:br>
            <a:r>
              <a:rPr b="1" lang="el-GR" sz="2800" spc="-1" strike="noStrike">
                <a:solidFill>
                  <a:srgbClr val="000000"/>
                </a:solidFill>
                <a:latin typeface="Times New Roman"/>
              </a:rPr>
              <a:t>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a:t>
            </a:r>
            <a:br>
              <a:rPr sz="2800"/>
            </a:br>
            <a:r>
              <a:rPr b="0" lang="el-GR" sz="2800" spc="-1" strike="noStrike">
                <a:solidFill>
                  <a:srgbClr val="000000"/>
                </a:solidFill>
                <a:latin typeface="Times New Roman"/>
              </a:rPr>
              <a:t>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br>
              <a:rPr sz="2800"/>
            </a:br>
            <a:r>
              <a:rPr b="0" lang="el-GR" sz="2800" spc="-1" strike="noStrike">
                <a:solidFill>
                  <a:srgbClr val="000000"/>
                </a:solidFill>
                <a:latin typeface="Times New Roman"/>
              </a:rPr>
              <a:t>Αυτό είναι και το παιδαγωγικό ζητούμενο της Παιδαγωγικής της Ένταξης, </a:t>
            </a:r>
            <a:br>
              <a:rPr sz="2800"/>
            </a:br>
            <a:r>
              <a:rPr b="0" lang="el-GR" sz="2800" spc="-1" strike="noStrike">
                <a:solidFill>
                  <a:srgbClr val="000000"/>
                </a:solidFill>
                <a:latin typeface="Times New Roman"/>
              </a:rPr>
              <a:t>που αποτελεί και ένα ηθικό ζήτημα.</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179280" y="981000"/>
            <a:ext cx="871380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κοπός της ενότητας αυτής </a:t>
            </a:r>
            <a:br>
              <a:rPr sz="2800"/>
            </a:br>
            <a:r>
              <a:rPr b="1" lang="el-GR" sz="2800" spc="-1" strike="noStrike">
                <a:solidFill>
                  <a:srgbClr val="000000"/>
                </a:solidFill>
                <a:latin typeface="Times New Roman"/>
              </a:rPr>
              <a:t>[του μαθήματος Παιδαγωγική της Ένταξης ] </a:t>
            </a:r>
            <a:br>
              <a:rPr sz="2800"/>
            </a:br>
            <a:r>
              <a:rPr b="0" lang="el-GR" sz="2800" spc="-1" strike="noStrike">
                <a:solidFill>
                  <a:srgbClr val="000000"/>
                </a:solidFill>
                <a:latin typeface="Times New Roman"/>
              </a:rPr>
              <a:t>είναι  να εστιάσει και να αναλύσει τους σημαντικότερους παράγοντες,  που  δυνητικά μπορούν να προωθήσουν  μία επιτυχημένη ένταξη. Τέτοιοι Παράγοντες είναι οι εξής :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a:t>
            </a:r>
            <a:br>
              <a:rPr sz="2800"/>
            </a:br>
            <a:r>
              <a:rPr b="0" lang="el-GR" sz="2800" spc="-1" strike="noStrike">
                <a:solidFill>
                  <a:srgbClr val="000000"/>
                </a:solidFill>
                <a:latin typeface="Times New Roman"/>
              </a:rPr>
              <a:t>με ειδικές  εκπαιδευτικές ανάγκες και αναπηρίες </a:t>
            </a:r>
            <a:br>
              <a:rPr sz="2800"/>
            </a:br>
            <a:r>
              <a:rPr b="0" lang="el-GR" sz="2800" spc="-1" strike="noStrike">
                <a:solidFill>
                  <a:srgbClr val="000000"/>
                </a:solidFill>
                <a:latin typeface="Times New Roman"/>
              </a:rPr>
              <a:t>σε ξεχωριστό πλαίσιο </a:t>
            </a:r>
            <a:br>
              <a:rPr sz="2800"/>
            </a:br>
            <a:r>
              <a:rPr b="0" lang="el-GR" sz="2800" spc="-1" strike="noStrike">
                <a:solidFill>
                  <a:srgbClr val="000000"/>
                </a:solidFill>
                <a:latin typeface="Times New Roman"/>
              </a:rPr>
              <a:t>μπορεί να οδηγήσει  σε στιγματισμό και αποκλεισμό.</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ούμενο  για την Παιδαγωγική Της Ένταξης </a:t>
            </a:r>
            <a:br>
              <a:rPr sz="2800"/>
            </a:br>
            <a:r>
              <a:rPr b="0" lang="el-GR" sz="2800" spc="-1" strike="noStrike">
                <a:solidFill>
                  <a:srgbClr val="000000"/>
                </a:solidFill>
                <a:latin typeface="Times New Roman"/>
              </a:rPr>
              <a:t>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6:39Z</dcterms:modified>
  <cp:revision>156</cp:revision>
  <dc:subject/>
  <dc:title>Παρουσίαση του PowerPoint</dc:title>
</cp:coreProperties>
</file>